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E2F-4E48-490F-B411-43F05001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990-0DE6-4517-B754-EA47268B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44CD3-0458-4DD0-9040-09A8AF73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7B700-7892-4FA0-BE4D-2633E45A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641C4-A24D-47DE-8A89-0DC726E9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3574B-3C26-41E8-B510-F68DAE9C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D15F7-ED27-4481-93CF-B7784FDE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B090D-6B7A-462E-BFEC-E342AE97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90615-05DE-4588-9D1F-30E5C633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50A44-0229-4EB8-B433-C7B11412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1C6A2-954E-4353-A4CC-7695B7E0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68C8A-6EFD-4BCD-AF01-78F8919F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884-2DE1-4E25-B547-406EAEAA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5A42E-AC08-49AD-BAA3-8C06196B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22EE3-14DA-48B1-A932-774C7885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6305A-DCAD-49AD-BBDC-B2052DA7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2B153-0165-4C7E-BC6D-E937C0D2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3063C-E06C-4DE9-BBDA-8D641A5E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7226C-9AC7-4690-AD4D-A505F3C0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DDE69-164E-4B73-90FB-EB127F1A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67EE7-6B60-48DA-A4E2-1E9A8CBF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810A7-AF51-4D9F-9966-55E43579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B0348-E70F-4AA7-B66B-01B5896E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2EA-A9A2-47B7-94F7-4D05E904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CEED1-5DB0-4FFD-820B-A0AE7DE2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63DC1-2324-4EC9-834E-D293300D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5966D-06B1-488A-A82F-6CC4C663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C45AA-017E-401B-94AB-35708D15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468A1-95B2-47A4-8102-C0DEBCD3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696F1-E413-4CC0-B8D0-9698119C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06B6C-B111-40EB-93CA-D817D47D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1F57E-37DD-4413-826E-E9398EF6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1871D-A9F5-4855-8540-C336128B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7E329-AA6C-4C5D-B5A6-EEDE8BFE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DA3F-E1F0-4C80-81FC-61F713C0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F7B1F-5444-4FE7-B268-BF9CF5AA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7C80E-3025-45D3-959E-EA720FCF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68CDE-8201-4C5F-B52F-B7BEAF2D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AD12F-1A2B-450E-8559-40970378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79D83-B00C-44C1-AD52-CE28EFC8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2F879-FBF0-4148-A1E3-37B35F3E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D6323-B2B0-4D34-9F55-BE61DBE4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4384D-985F-4490-8E71-70835A8D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78B9A-FBD7-42E3-A086-49A8FD29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4BB7E-8607-4D3F-B66E-EFE1E68B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BC58-7CB0-44A4-BA1A-90A9FEDD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5939E-9534-4B1B-8BCC-7FCE54FA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3CA16-0ECB-4428-9D68-41CF391A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8B904-9DE9-4512-8B28-EB611D5B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4654D-829E-426B-AFE4-0C8C2DFC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CE0A7-0CA6-4E11-8417-E87E42C7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50F7-8665-4D99-A23F-A0B7B87F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FB58-D258-4EA8-9FED-F965C47B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EA1E-19C1-481A-81A3-8636E095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0C23-87E0-4AAC-84EF-147A74C6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21D3-B069-4FA2-873D-8EBF5447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8ED-E522-4C78-8114-C0CA4E6D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2618-5915-40E8-824C-58ECE97E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52A4-8E21-4EBD-8E97-EACC6CB9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8E88-C44A-44C2-8AC2-EA896260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96F6-2849-4BCF-9D08-99080302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B5E6-88A0-4F2D-A80B-B791D194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E1461-DF8E-4AF7-8923-C22F6D51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DC8F2-8151-4161-9DA5-DB53C38A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36F9-F30E-4F92-A314-909283AC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C023E-E777-4B83-9743-9C7C3A31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762F4-E6E5-460A-B2EC-CA9E1A22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4C4-8510-4A04-99AA-D3F61FF5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3DC83-1E90-4964-A26F-4D70DB24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9ED08-D1A8-43D8-A15B-11606ED0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C1B03-F5E8-4DAE-9B48-F3D657F2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1FB9C-7A15-4278-9CA0-DFC78B6E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B4DA5-CBE4-4AFC-BF0E-5156D3EC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43FF-0B91-41D1-8B27-2D9B401C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59B3B-E41F-4832-B110-73D997CE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85FC0-15BC-425B-AB3B-1FF0801D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26203-E5FE-4450-BBFB-14DABA23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6D517-D83C-4FB7-851E-B4CC023A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166-36E7-4FD3-8D57-72DF61B2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30A40-97E0-4FC7-A8E7-A2525371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3C892-D9F3-4DC2-95C7-8297AA5D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78CB0-61BB-4CB7-A5EE-98E889FD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329FD-11D9-4AA0-8586-49F8B3B7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DFF5A-093A-4F77-BDFD-3F415499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7BADF-866D-4F50-9181-65B7A649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A646D-A577-4C85-AE22-DB10560F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1739A-C4D0-4069-B63C-084D05CE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E7B60-20E2-448C-8091-779FEB52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DDDC5-1B89-46F3-937F-0093A373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A40-E799-48F8-AD93-8DED9D29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C5EE2-7A5A-48A7-8219-2BCEC37B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3C7A6-C16C-4DA4-A8E8-5BB321DF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37372-FB31-45AF-A5C9-B601582B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AA136-6AC7-42C3-8BA7-D49A1351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FD13E-5BA9-4426-85F3-55331732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B68DF-9AF5-4FB4-8CBC-7FF13034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273A6-6C66-48BE-9C52-2FCBD234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D69B6-065E-47D8-A420-1AE4A420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43B46-5721-4B0E-8551-AC452EE1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A3284-32E2-45A1-8843-D6515647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B3BE-DE08-47EC-93D5-0462B296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8D6CB-0165-4B5E-882F-36DD6D67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84468-36B7-4F7C-A4FA-829F74D8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60838-1EF7-4CCD-9CB6-EA3900E5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CA0E5-E53E-45EA-A28F-739656BA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56170-5951-4F20-BD9E-4F3D8C15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BB39E-BCBB-4FD1-ACCF-BC63613D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F40C5-D61B-444F-809A-32868F99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9924F-34EA-4973-A2F3-E1A8D733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7C397-620F-4199-A11C-3BFA6A7B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963C7-09CD-4F87-8212-136610F0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B98-A46B-4325-9942-9C374619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5F157-4067-4838-8791-638F7E9B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B2776-3E55-488E-8A35-DCE4725C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C4180-CA22-4D6F-92CA-BC47019A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69F4A-2E95-4B24-A2D7-0E5233BE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1C64B-262A-4BDA-A970-E1F15F18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3FC09-864E-447B-86C8-137359C4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3F80D-D6A8-4357-85E9-44010AE2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40738-C76A-4962-8A7B-F542DACA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9FC67-A1E2-47D6-A65A-3D6B929F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B1741-D03B-4ABA-8398-CC55918B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F44-B8F1-4D13-A46F-7AB373C7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A442E-9920-4FD9-AACD-685E1ACF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855E9-F9E9-482A-88F3-6ED7C0EE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1F87F-D86E-4D18-B4CA-6945EF86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CC5EA-0D1B-4CF9-80D0-4444BD1E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2890F-69CD-480E-A9DC-17AC52C5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01380-D3CF-4B92-A9D4-EC42E77C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E6FDF-5CEC-4E67-B791-148EFA3D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42171-C9D2-42C6-8E1D-AB88FF64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0B993-2CB4-4C82-973A-061133B1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976AD-74BB-40A9-A6B9-635F2700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2DB-AA0A-4934-8EC6-1F49A323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1DC2B-FCAE-4D56-A079-A1035B06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BFA49-FE9E-4739-920F-FD56C195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30425-27CE-4D2C-9574-ECF506E9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0FC24-6701-4F99-A57F-A642E6E6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2B270-348F-4D7B-9DFA-142B9318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92F9E-296B-4C0D-B203-E8565062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DD2D8-5C47-4523-AD2F-82C1CDA8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43F16-9173-49BD-BC1D-D141FAB6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762C9-A564-4B21-90C0-747D9D1A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2AE44-E2BD-4A41-A4EB-35697C26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13C2-2332-4BF8-884E-76DB5E21A0E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D0A0-F673-4292-A958-C7342DDCCF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18C2-F95A-4104-821D-BF697423AD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2B9A-DBC1-4CF5-9BC0-0CE90499950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6A15-A1E3-494D-B3AB-41D96A5765E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66BA-839C-43D0-9F53-CC3188343F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81E9-5740-4A8C-83D5-0B1DD980CF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BBBA-8396-4FC1-89FB-6274F67981E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A9FF-CF55-4E30-B889-36DEAA1ABD0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4DE1-848A-48E4-9668-995E2480E6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EF08-F303-477F-95E1-39CDC7D96A9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5289-E284-49D8-B7B3-3EF2239CEFE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43 Takého ja Priateľa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ého ja Priateľa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ý pri mne vždycky stá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oľahnúť sa smiem na n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mňa seba v obeť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u krv keď za mňa vyli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enie mi vydoby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golgotskom kríži zomr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som raz večne 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lásku neochvejnú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docením nikdy d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lušnosťou jemu túži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vďačiť sa za mil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cem ísť už vlastnou cest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le v jeho šľapaja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stále bude pri m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usím mať nikdy str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ateľ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nebi i na ze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o mnou bdie neustál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 dobré praje 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jeho sile chcem ísť smel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ále vpred až k výši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ím, že raz dovedie m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, kde Kráľom on je s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3-26T18:45:30Z</dcterms:modified>
  <cp:revision>21</cp:revision>
  <dc:subject/>
  <dc:title>Je veľký náš Pán, on slávy je Kráľ Nech do všetkých strán  spev vrúcnych znie chvál.</dc:title>
</cp:coreProperties>
</file>